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39C2-B8B5-42E8-A5A7-E20D4A0B8D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BFE-7582-4C36-BF32-355398D2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B8D-6BDC-43E5-9E7B-3C458D0A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3A5-3AF4-4880-BB5B-42E43937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848-6D2D-4A8F-BAEC-22DE8063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FF4-07A5-4580-BDC2-31C48418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318-F9D6-4D3F-BB7D-B4E02F49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DF0-8DA2-4F6B-983D-BCD46A1A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74D-A60B-46AC-8D1E-B9D51BD5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51E-7D56-419E-BBCA-C0ED3C15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746-B9BE-4420-806F-1F62AB43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937-9470-40D3-A82A-1D7C4A78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EB4-A8D9-4702-9A7B-FF0437E6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CF50-DC1F-4858-AD35-A09531A37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27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028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9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30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31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33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4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66cc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6fdb5d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dc54ad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038480" y="4648320"/>
            <a:ext cx="1295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590920" y="3429000"/>
            <a:ext cx="1295280" cy="1295280"/>
          </a:xfrm>
          <a:prstGeom prst="ellipse">
            <a:avLst/>
          </a:prstGeom>
          <a:solidFill>
            <a:srgbClr val="078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914400" y="457200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562720" y="3505320"/>
            <a:ext cx="1295280" cy="1295280"/>
          </a:xfrm>
          <a:prstGeom prst="ellipse">
            <a:avLst/>
          </a:prstGeom>
          <a:solidFill>
            <a:srgbClr val="6fdb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7010280" y="4572000"/>
            <a:ext cx="129564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scribed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ea1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c2c6"/>
                </a:solidFill>
                <a:latin typeface="Times New Roman"/>
              </a:rPr>
              <a:t>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2c2c6"/>
                </a:solidFill>
                <a:latin typeface="Times New Roman"/>
              </a:rPr>
              <a:t>arc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648320" y="2220840"/>
            <a:ext cx="380988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9218"/>
                </a:solidFill>
                <a:latin typeface="Times New Roman"/>
              </a:rPr>
              <a:t>arc 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685800" y="2427120"/>
            <a:ext cx="3809880" cy="322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adius (or Radii for pl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4a0c59"/>
                </a:solidFill>
                <a:latin typeface="Times New Roman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685800" y="2179800"/>
            <a:ext cx="3809880" cy="371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passes through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822cd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37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685800" y="226224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5160960" y="198108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4729320" y="198108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Tan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888888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3809880" cy="39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entral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99552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48320" y="2093760"/>
            <a:ext cx="3809880" cy="388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30:45Z</dcterms:created>
  <dc:creator>Academic Computing</dc:creator>
  <dc:description/>
  <dc:language>en-US</dc:language>
  <cp:lastModifiedBy>RomaK</cp:lastModifiedBy>
  <cp:lastPrinted>2002-10-23T17:55:57Z</cp:lastPrinted>
  <dcterms:modified xsi:type="dcterms:W3CDTF">2015-09-04T07:38:27Z</dcterms:modified>
  <cp:revision>47</cp:revision>
  <dc:subject/>
  <dc:title>GEOMETRY</dc:title>
</cp:coreProperties>
</file>